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E22A-3F4C-4676-86A8-A8E25F2F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9BD3-8057-4830-BF6E-4995552B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8ED2-EE41-47D5-A3A2-58E7D335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D0BC-6522-435B-A714-E50DEEAE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72FD-0D29-4D44-B0F9-48F40EA4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0A43-46F5-44A2-ACFC-8A98A5B2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3569-1BBE-4654-9626-324C351A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8BC-A4B1-436D-B145-16D0C846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2606-E39F-46DF-926C-861CCAA9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BDB4-EA14-4D12-A222-F8F67FC7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C261-D286-4EC0-953D-D200E20B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A3DB-8C07-49F8-8A8A-D1429BC9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A71D-8A54-4530-8ADF-14B7A48CA48D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74720" y="2421000"/>
            <a:ext cx="7850160" cy="1079280"/>
          </a:xfrm>
          <a:prstGeom prst="rect">
            <a:avLst/>
          </a:prstGeom>
          <a:solidFill>
            <a:srgbClr val="c6d9f1"/>
          </a:solidFill>
          <a:ln w="3816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PEPTIC ULCER  DISEASE (PU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94920" y="3860640"/>
            <a:ext cx="820908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Users\ashawky\Desktop\mcst logo.jpg"/>
          <p:cNvPicPr/>
          <p:nvPr/>
        </p:nvPicPr>
        <p:blipFill>
          <a:blip r:embed="rId1"/>
          <a:stretch/>
        </p:blipFill>
        <p:spPr>
          <a:xfrm>
            <a:off x="6012000" y="474840"/>
            <a:ext cx="2628720" cy="66672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1222-B591-426C-B7F2-3D96B0794875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28320" y="764640"/>
            <a:ext cx="83581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4.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. pylor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enhances gastric acid secretio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impairs duodenal bicarbonate produ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thus reducing luminal pH in the duodenum. This altered milieu seems to favor gastric metaplasia (the presence of gastric epithelium) in the first part of the duodenu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uch metaplastic foci provide areas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H. pylor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lonization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F2B2-9351-4C9A-A9A4-1D2DA284CE0D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264360"/>
          </a:xfrm>
          <a:prstGeom prst="rect">
            <a:avLst/>
          </a:prstGeom>
          <a:ln w="0">
            <a:noFill/>
          </a:ln>
        </p:spPr>
      </p:pic>
      <p:sp>
        <p:nvSpPr>
          <p:cNvPr id="8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D208-C063-4589-A413-16B085969DC3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5D11A-56AA-4C18-B070-667520D56E72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C:\Users\ashawky\Desktop\stomach endoscopy.jpg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33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63748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* Gross feat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4920" y="1052640"/>
            <a:ext cx="851076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Sit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stric ulcers are located at the antrum toward the lesser curvature. The duodenal ulcer is usually located at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art anterior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Shape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und, ova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Size: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ual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ess than 2cm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diame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ions less than 0.3 cm  are likely to be shallow eros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ant ulcers are usually greater than 3cm in diameter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0647-5A73-4C0E-BAD3-BE7FA5A53439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24000" y="404280"/>
            <a:ext cx="85644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Base of ulc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m (formed of bundles of muscles and fibrous tissu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Floo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ean (gastric juice digest any food particles at the flo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Margin (Surrounding gastric mucosa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ematous and reddened due to gastriti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Depth of the ulcer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uperficial ulc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netrate the mucosa reaching up to the muscularis muc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eeply ulcer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their bases o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uscularis propr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6AB6-74C5-4B55-A0CB-7C8C4528026A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G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4535280" cy="3886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3954240" cy="3886200"/>
          </a:xfrm>
          <a:prstGeom prst="rect">
            <a:avLst/>
          </a:prstGeom>
          <a:ln w="0">
            <a:noFill/>
          </a:ln>
        </p:spPr>
      </p:pic>
      <p:sp>
        <p:nvSpPr>
          <p:cNvPr id="9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47ED-62B7-4754-88EB-8CA9D5C6A931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836960" y="920520"/>
            <a:ext cx="375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Gastric ulc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176720" cy="3462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4572000" y="3284640"/>
            <a:ext cx="4286160" cy="3371760"/>
          </a:xfrm>
          <a:prstGeom prst="rect">
            <a:avLst/>
          </a:prstGeom>
          <a:ln w="0">
            <a:noFill/>
          </a:ln>
        </p:spPr>
      </p:pic>
      <p:sp>
        <p:nvSpPr>
          <p:cNvPr id="101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4FF0-AF88-4855-B092-5DC3F9E5190E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Duodenal ulc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GIC0301-07-013C"/>
          <p:cNvPicPr/>
          <p:nvPr/>
        </p:nvPicPr>
        <p:blipFill>
          <a:blip r:embed="rId1"/>
          <a:stretch/>
        </p:blipFill>
        <p:spPr>
          <a:xfrm>
            <a:off x="179280" y="1241280"/>
            <a:ext cx="8713800" cy="5262840"/>
          </a:xfrm>
          <a:prstGeom prst="rect">
            <a:avLst/>
          </a:prstGeom>
          <a:ln w="0">
            <a:noFill/>
          </a:ln>
        </p:spPr>
      </p:pic>
      <p:sp>
        <p:nvSpPr>
          <p:cNvPr id="106" name="Right Arrow 1"/>
          <p:cNvSpPr/>
          <p:nvPr/>
        </p:nvSpPr>
        <p:spPr>
          <a:xfrm>
            <a:off x="6659640" y="3630600"/>
            <a:ext cx="97956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26BB-9275-4A49-AD2C-5743A5B75CFD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547344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* Microscopic feature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 distinct layers are present in a peptic ulcer in the same sequence starting from the luminal si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Necrotic debr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Non-specific acute inflammatory reac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Granulation tiss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Fibrosis: replacing the muscle wall and extending into subseros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08E4-3EB8-4E5F-A283-6E8262E96211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croscopic picture of peptic ulcer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882200" cy="5176800"/>
          </a:xfrm>
          <a:prstGeom prst="rect">
            <a:avLst/>
          </a:prstGeom>
          <a:ln w="0">
            <a:noFill/>
          </a:ln>
        </p:spPr>
      </p:pic>
      <p:sp>
        <p:nvSpPr>
          <p:cNvPr id="11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FABA-2FAA-4ECF-AF30-BC5FD5231295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17160" y="713880"/>
            <a:ext cx="863748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</a:rPr>
              <a:t>* Definition of peptic ulcer diseas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lceration of any portion of the gastrointestinal tract exposed to the aggressive action of acidic-peptic secre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0644-176D-478D-B039-5F2AD377B980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* Complications of PU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. Hemorrhag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s to hematemesis or mele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2. Perfor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3. Healing by fibrosi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using obstruc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4. Malignant transforma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re (0.5% of gastric peptic ulcer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E526-0E6A-4384-AAD1-E9CF1E186C55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863748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</a:rPr>
              <a:t>* Clinical presentat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3640" y="1196640"/>
            <a:ext cx="856908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hronic, recurring les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g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often diagnosed in middle aged to older adul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ai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pigastric burning or aching pa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in worse at night and 1 to 3 hours after meal during the day specially in duodenal ulc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ssically, the pain is relieved by alkalis or food (DU)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vomiting (GU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F335-1DB6-443F-AEE1-88998F17946B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6840" y="620280"/>
            <a:ext cx="84358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usea, vomiting, bloating, and significant weight loss (raising the possibility of some hidden malignancy) are additional manifesta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penetrating ulcers, the pain is occasionally referred to the back, the left upper quadrant, or chest. This type of pain may be misinterpreted as being of cardiac orig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50BD-94B1-449B-A950-4777559B17D6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Users\ashawky\Desktop\537609_532248906799119_1451101252_n.jpg"/>
          <p:cNvPicPr/>
          <p:nvPr/>
        </p:nvPicPr>
        <p:blipFill>
          <a:blip r:embed="rId1"/>
          <a:stretch/>
        </p:blipFill>
        <p:spPr>
          <a:xfrm>
            <a:off x="2050920" y="620640"/>
            <a:ext cx="4662720" cy="49323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42920" y="4723920"/>
            <a:ext cx="309708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lackadder ITC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AEC9-2CE5-406C-8FB7-012BA7974C82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684072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</a:rPr>
              <a:t>* Sites of peptic ulcer diseas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4000" y="1196640"/>
            <a:ext cx="8208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uodenum (DU)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st portion. Anterior wall is more often affect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tomach (GU)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ually antrum.  Lesser curvature (common)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t the margins of a gastroenterostom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stomal ulc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the duodenum, stomach or jejunum of patients with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Zollinger-Ellison syndrom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eckel’s diverticulum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contains ectopic gastric mucosa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5296-93EB-49BD-AB2B-6BAFC02F9657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3492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</a:rPr>
              <a:t>* Pathogenesis of peptic ulcer</a:t>
            </a: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Calibri"/>
              </a:rPr>
              <a:t>: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8320" y="1341360"/>
            <a:ext cx="84913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ptic ulcers are produced b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n imbalan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ween the gastro-duoden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ucosal defense mechanism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amaging forces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F9E20-4AC0-407D-9C82-2182DD097BD1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8778960" cy="5046840"/>
          </a:xfrm>
          <a:prstGeom prst="rect">
            <a:avLst/>
          </a:prstGeom>
          <a:ln w="0">
            <a:noFill/>
          </a:ln>
        </p:spPr>
      </p:pic>
      <p:sp>
        <p:nvSpPr>
          <p:cNvPr id="5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DBCD-1DCE-4E07-8E93-49C242B319C3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558ed5"/>
                </a:solidFill>
                <a:uFillTx/>
                <a:latin typeface="Calibri"/>
              </a:rPr>
              <a:t>* Mucosal defense mechanism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mucous secre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carbonate secretion into muco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ght adherence between epithelial cells to prevent any acid leakage to the ins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blood supply to the muco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newal of damaged epithelial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aboration of prostaglandi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A721-B798-46CF-9018-057917357295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558ed5"/>
                </a:solidFill>
                <a:uFillTx/>
                <a:latin typeface="Calibri"/>
              </a:rPr>
              <a:t>* Damaging agent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. pylo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SAI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piri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garette smo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coholis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tric hyperacid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odenal-gastric reflux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3FF4-C720-40E6-BDA1-15C54094B4A9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563040"/>
            <a:ext cx="863748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Role of</a:t>
            </a: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H. Pylori infection in the pathogenesis of peptic ulc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8320" y="1676160"/>
            <a:ext cx="8636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. pylor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ection is present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lmost al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ients wi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uoden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lcers and 70% of  cases with gastric ulc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00000"/>
                </a:solidFill>
                <a:uFillTx/>
                <a:latin typeface="Calibri"/>
              </a:rPr>
              <a:t>* </a:t>
            </a: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Calibri"/>
              </a:rPr>
              <a:t>Mechanis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H. pylori secretes damaging enzym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Urea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breaks down urea to toxic compounds e.g. ammonium chlori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otea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reaks down glycoprotein in the gastric mucus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hospholipas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Damage the cell membranes of surface epithelial cel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E3F6-F483-4892-8F14-957ADBA29684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23640" y="549000"/>
            <a:ext cx="835164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terial lipopolysaccharide  stimulate the surface epithelial cells to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release pro-inflammatory cytokin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 IL-1, IL-6 and TNF. These attracts inflammatory cells (Neutrophils) to the mucosa and promote the inflammatory re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. pylori release bacterial platelet-activating factor promotes 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thrombotic occlusion of surface capillari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272D-5261-4776-ABBE-0D7400B573EE}" type="slidenum">
              <a:rPr b="0" lang="en-A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01:10:12Z</dcterms:created>
  <dc:creator>HP Authorized Customer</dc:creator>
  <dc:description/>
  <dc:language>en-US</dc:language>
  <cp:lastModifiedBy>Jihan Abdelmenam</cp:lastModifiedBy>
  <dcterms:modified xsi:type="dcterms:W3CDTF">2016-09-20T14:18:57Z</dcterms:modified>
  <cp:revision>138</cp:revision>
  <dc:subject/>
  <dc:title>PATHLOGY AND PATHOGENESIS OF PEPTIC ULCER</dc:title>
</cp:coreProperties>
</file>